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9.jpeg" ContentType="image/jpeg"/>
  <Override PartName="/ppt/media/image10.png" ContentType="image/png"/>
  <Override PartName="/ppt/media/image6.jpeg" ContentType="image/jpeg"/>
  <Override PartName="/ppt/media/image9.png" ContentType="image/png"/>
  <Override PartName="/ppt/media/image12.png" ContentType="image/png"/>
  <Override PartName="/ppt/media/image7.png" ContentType="image/png"/>
  <Override PartName="/ppt/media/image8.png" ContentType="image/png"/>
  <Override PartName="/ppt/media/image5.jpeg" ContentType="image/jpeg"/>
  <Override PartName="/ppt/media/image13.jpeg" ContentType="image/jpeg"/>
  <Override PartName="/ppt/media/image23.jpeg" ContentType="image/jpeg"/>
  <Override PartName="/ppt/media/image22.png" ContentType="image/png"/>
  <Override PartName="/ppt/media/image21.png" ContentType="image/png"/>
  <Override PartName="/ppt/media/image4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2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6F088-015E-49E1-A57A-5F5746077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CF52F-DCF1-4134-B97A-CFA12A3A1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1D0F8-F796-4D6A-8B22-4FB42288E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83740-1398-4D04-9379-EBF4CBAD4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53DD8-51D4-4E03-A145-30E69806B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8E066-FD97-4C28-9112-021FC8B78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9148E-9B07-4DEC-A858-340123E02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16816-BB15-4BD7-96F9-90CE4B9FB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1A19A-6326-4926-A352-60B3B157D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D9EAF-8446-430C-A086-5AB3803E1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2CDF2-BF81-43ED-AC3F-9A3FA9CF5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85C36-A5DC-4357-AA9C-DC3C20556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7AC9F-A062-4301-97BD-84B6809BF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F9717-CB70-48E5-8F3A-8FD5A8992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942F9-7ECB-4523-A850-05A88B560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12635-A327-4E28-8206-2B24F99D4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6D3AA-A662-4DFF-AC5F-C39245BBD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CB1A1C-8632-4B1C-A38E-00CF93FFA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6D6028-A9F8-4473-A021-B8B0F5E7A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025887-F93B-4489-9347-16E9D6255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F96431-CDF8-4428-B6B6-7F70CA1E9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B98EC7-DF03-4EF3-B159-24F4E72FE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70D82-6F7A-45AA-A523-24183997F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5145BE-39E2-4D72-AE0D-45C56F4CA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1AB580-69F4-4676-BBFA-07833AE71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8A8C80-A5F8-4C8E-981A-C5C8DF0C7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1F4029-448C-4D0E-9BF3-95AAA7052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869C56-95F0-4A11-9C36-02B8761EE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36DEE2-84EF-4B08-B47A-BA0F32F1B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BD081A-E6D9-4BF1-847C-2B0865917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45895B-14CC-4C2B-9788-AD29D264D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1CDC31-5447-412B-BCD2-CAA00D736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4D7BAF-B8A4-4E02-82EC-81D29F49E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4BF39-F9A0-4C89-A757-5226C6396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437EEF-45DB-4819-B2B5-EA7C6C13A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4E27BC-7244-457B-86E9-16ECC0B3F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1457DB-E55E-43B0-860D-D71D9843D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FF753F-F69E-4491-A2A4-082BC820C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A0FE56-4C33-46E6-AB9E-2B71B834C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8F8C24-E479-4CE2-8A89-DFA2C7258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55AB7D-6C86-40A9-90A5-1F1E9DAFA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104195-AF25-435D-B32A-5D441BA9B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B9C474-AD9A-44BD-A36E-114CE8F74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5F9265-7F09-4D64-8C7D-13E65AA8B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2D990-21D0-47AD-8081-9C9FEA359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A573B4-BCC2-43B7-99D5-C46F2921A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CCE338-B443-49A1-8387-78CD981FF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F6B692-BC66-4FCF-9B92-76F6FD531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296233-CFEF-4CAE-98C8-870DED0F9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91918B-1F6E-4DC2-88D3-2A1AFF30B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ECD6C9-E0B3-4E75-B0CF-FDBD3F6CA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3D0824-9F9C-4557-9394-D2BCFBDB3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8ED68D-3412-4925-B2DE-52AA59FDD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28B035-8A74-4506-982D-D3A112579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F8876C-48B9-44E6-96D6-DF659630D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C0A7D-D505-4665-BD72-63B68E149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BA4EC9-0D44-45DE-A5E2-9F1B6B1DE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989E49-397E-485F-8AC6-3A887FDC2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1B598B-CC54-41C2-AF9D-3B379C8E7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D78079-6259-4038-A87F-72B14633A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F29104-CBFE-427C-A7FE-D209B618B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B37B31-5463-4382-BBC2-8E3082B77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46D308-160B-44B7-B355-C724E234F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FDA66A-2B4A-4B82-81F8-8C6972A0C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0D618D-433F-4069-9F09-D2007E5A3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23BF8F-9889-4433-9B8E-FCB937698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4D487-B867-4EAF-BCAF-4DA603A4E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09FE65-5084-4E2E-AD45-376FCDBB4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ED2803-41F1-4AFB-8E07-8497B6DA9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9736B6-AA38-454A-B1EA-EC7AE64BE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A5C75C-7624-4711-B7F3-288DEE5A9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5C3A1D-3F52-4D88-AF87-C1D2498C7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E5961F-BD16-4379-ABC8-F5719FB25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342F82-76A2-47DB-9997-F1154C8EE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82CCEB-4FAA-4CEC-908E-A0C1E285A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E60005-B9C9-452C-8706-CCDEE9867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70ADC7-345B-4502-A434-A3779C3C7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DDCCE-31C4-4A49-9F58-4C1B96C5D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E5A1FB-3842-4FC8-B077-9BCA92FF8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3C29EE-479E-40B7-95CC-74629262A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D251CF-4BDE-4E1F-853F-DBF814314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A9255F-BA80-4DE9-8525-E9E93D50E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FCC0B3-6F7C-490B-8E21-A2EF22846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ECBB23-2AB0-42E2-86BA-53EFA63F1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C7246B-D4CC-475C-A4D8-5B958AA81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DE2595-45C4-4B5E-8E07-A4F72F811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22D5D0-500C-41C7-9259-26E5858C3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60712D-DC3B-4D71-BAD2-AD3A9F2D9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C0F36-93C9-4725-983F-AFA37D4CC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373251-B396-46B0-AADD-115092865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B59465-CBD6-44DD-BD10-A924C45E0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6A8E67-EB0A-4565-97A7-1B8710D73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37B2D5-0061-4D9B-9F83-E30E1B8E8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4F5920-5E30-47B1-8A0D-9AC51A5CC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7C9867-060E-4E70-8028-55FB17AF5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696778-9A8B-4BAB-8ED1-0976A867C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DE8C2-8B2B-4EFF-A1B1-A4A1017EB9BA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2F751-5C18-4B7E-BC2B-9B15327671BA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72A1E-A7A4-46C3-B339-7CC95010127E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15759-0B89-42FC-B370-C69A799EB4D8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6642A-C224-4220-9CE5-47744353DAF9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A8096-AAA9-4EE5-B68F-82231411CCCD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C74F5-AA92-42AF-AF8D-8222B170A812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05569-A4C6-45AD-911E-F9604C646841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le 1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7785000" cy="18414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Lucida Sans Unicode"/>
              </a:rPr>
              <a:t>KEY CHALLENGES IN THE DISTRICTS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Lucida Sans Unicode"/>
              </a:rPr>
              <a:t>TANZANIA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2" descr="C:\Users\USER\Desktop\9-27-2012(1) IITA BABATI\DSC01887.JPG"/>
          <p:cNvPicPr/>
          <p:nvPr/>
        </p:nvPicPr>
        <p:blipFill>
          <a:blip r:embed="rId2"/>
          <a:stretch/>
        </p:blipFill>
        <p:spPr>
          <a:xfrm>
            <a:off x="950760" y="1481040"/>
            <a:ext cx="7242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Weak co-operative societies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Poor market linkage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Weak market information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Poor transportation.eg feeder roads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1" name="Title 2" descr=""/>
          <p:cNvPicPr/>
          <p:nvPr/>
        </p:nvPicPr>
        <p:blipFill>
          <a:blip r:embed="rId1"/>
          <a:stretch/>
        </p:blipFill>
        <p:spPr>
          <a:xfrm>
            <a:off x="268200" y="268200"/>
            <a:ext cx="842508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Inadequate managements skills on how to operate the societies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Lack of farm management planning and tools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Limited financial institutions in rural areas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3" name="Title 2" descr=""/>
          <p:cNvPicPr/>
          <p:nvPr/>
        </p:nvPicPr>
        <p:blipFill>
          <a:blip r:embed="rId1"/>
          <a:stretch/>
        </p:blipFill>
        <p:spPr>
          <a:xfrm>
            <a:off x="201600" y="268200"/>
            <a:ext cx="849168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Tit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2" descr="C:\Users\ACT 05\Pictures\Matukio\DSC01119.JPG"/>
          <p:cNvPicPr/>
          <p:nvPr/>
        </p:nvPicPr>
        <p:blipFill>
          <a:blip r:embed="rId2"/>
          <a:stretch/>
        </p:blipFill>
        <p:spPr>
          <a:xfrm>
            <a:off x="838080" y="1481040"/>
            <a:ext cx="7162920" cy="49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More than 80% Depend on agriculture and Livestock for Livelihood majority are agro-pastoralists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The rest earn living on small business and on employment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3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Poor soil fertility due to continuous cropping without soil nutrient replenishment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2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adequate availability/access of improved seed to famers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gh prices of improved seed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5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Drought/Moisture stress/erratic rainfall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Insect pest infestation and disease infestation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eak linkage between research – extension – farmer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ack of farmers networking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7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lnSpc>
                <a:spcPct val="14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Weak extension servic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4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nadequate agro processing industry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4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nadequate agro mechanization tools and equipment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4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Lack of non tradition crop seeds esp spicies eg; garlic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4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nadequate knowledge/information on nutrition aspect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9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Title 2" descr=""/>
          <p:cNvPicPr/>
          <p:nvPr/>
        </p:nvPicPr>
        <p:blipFill>
          <a:blip r:embed="rId1"/>
          <a:stretch/>
        </p:blipFill>
        <p:spPr>
          <a:xfrm>
            <a:off x="450720" y="60480"/>
            <a:ext cx="8242560" cy="145080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2" descr="C:\Users\ACT 05\Pictures\9-27-2012(1) IITA BABATI\DSC01942.JPG"/>
          <p:cNvPicPr/>
          <p:nvPr/>
        </p:nvPicPr>
        <p:blipFill>
          <a:blip r:embed="rId2"/>
          <a:stretch/>
        </p:blipFill>
        <p:spPr>
          <a:xfrm>
            <a:off x="885960" y="1481040"/>
            <a:ext cx="73720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Title 2" descr=""/>
          <p:cNvPicPr/>
          <p:nvPr/>
        </p:nvPicPr>
        <p:blipFill>
          <a:blip r:embed="rId1"/>
          <a:stretch/>
        </p:blipFill>
        <p:spPr>
          <a:xfrm>
            <a:off x="450720" y="60480"/>
            <a:ext cx="8242560" cy="145080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2" descr="C:\Users\ACT 05\Pictures\9-27-2012(1) IITA BABATI\DSC01938.JPG"/>
          <p:cNvPicPr/>
          <p:nvPr/>
        </p:nvPicPr>
        <p:blipFill>
          <a:blip r:embed="rId2"/>
          <a:stretch/>
        </p:blipFill>
        <p:spPr>
          <a:xfrm>
            <a:off x="1084320" y="1481040"/>
            <a:ext cx="69753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Unavailability of improved breeds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Overstocking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Lack of improved pasture seeds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Pest and diseases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5" name="Title 2" descr=""/>
          <p:cNvPicPr/>
          <p:nvPr/>
        </p:nvPicPr>
        <p:blipFill>
          <a:blip r:embed="rId1"/>
          <a:stretch/>
        </p:blipFill>
        <p:spPr>
          <a:xfrm>
            <a:off x="268200" y="268200"/>
            <a:ext cx="842508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Escalating conflict between livestock keepers and farmers.(land use plan/destocking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nadequate livestock infrastructure: eg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Vet cente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nimal Dip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Livestock market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nadequate water for livestock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nadequate agro processing industry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7" name="Title 2" descr=""/>
          <p:cNvPicPr/>
          <p:nvPr/>
        </p:nvPicPr>
        <p:blipFill>
          <a:blip r:embed="rId1"/>
          <a:stretch/>
        </p:blipFill>
        <p:spPr>
          <a:xfrm>
            <a:off x="171360" y="268200"/>
            <a:ext cx="852192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1T15:16:15Z</dcterms:created>
  <dc:creator>ACT 05</dc:creator>
  <dc:description/>
  <dc:language>en-US</dc:language>
  <cp:lastModifiedBy>ACT 05</cp:lastModifiedBy>
  <dcterms:modified xsi:type="dcterms:W3CDTF">2012-10-02T09:06:23Z</dcterms:modified>
  <cp:revision>19</cp:revision>
  <dc:subject/>
  <dc:title>KEY DEVELOPING A DEMAND-DRIVEN RESEARCH AGENDA</dc:title>
</cp:coreProperties>
</file>